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8.png" ContentType="image/png"/>
  <Override PartName="/ppt/media/image7.jpeg" ContentType="image/jpeg"/>
  <Override PartName="/ppt/media/image27.png" ContentType="image/png"/>
  <Override PartName="/ppt/media/image4.jpeg" ContentType="image/jpeg"/>
  <Override PartName="/ppt/media/image31.jpeg" ContentType="image/jpeg"/>
  <Override PartName="/ppt/media/image25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5.wmf" ContentType="image/x-wmf"/>
  <Override PartName="/ppt/media/image30.png" ContentType="image/png"/>
  <Override PartName="/ppt/media/image34.wmf" ContentType="image/x-wmf"/>
  <Override PartName="/ppt/media/image14.png" ContentType="image/png"/>
  <Override PartName="/ppt/media/image35.png" ContentType="image/png"/>
  <Override PartName="/ppt/media/image3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2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5627-95BD-47AF-B175-20622F18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8A17-49F1-4BB1-8FF3-802A5D00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39D-1159-4589-851D-14FB6185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5BFE-3358-42EA-8F3C-80E8EA19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01D-A124-4A57-B212-3213BF3E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446-EC1F-4804-91CF-05FA15D0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AE9-622B-4821-B2A9-66425D25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09D2-698D-4DF7-B04D-4C8D277E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19C3-4005-418E-BD85-43D64DCF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B80E-6530-437C-8413-C681EA6E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B0C6-BE02-4ADE-B6B4-DBBCE350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303-295C-485A-8672-44AE0D3E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E58-C64B-4220-88CF-87FAF6E42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D1E0-B38E-4144-8937-F81B84862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37F9-DB5D-4D80-AF12-6385A28A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ADEC-A41B-4F18-9CE1-6DA642C6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B2C9-94F5-43C6-8163-2BDC100F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5652-9173-4344-9814-318CA5A07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7615-43D7-42A5-B7C1-E3A2466F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0405-80A5-4F8E-AB1E-DBC71F54A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7C46-ED19-4569-AE4D-BA2B45BA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0AB6-766B-48D3-BB21-3475306D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87D9-907E-4D16-A8AE-52D7CE96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913-C5B3-469E-8A69-0D880EF9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C4B-81F4-4CA0-8D2B-2423A128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57A6-52D0-4980-A8B1-A6F82BD41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6B6C-7F16-4521-8B10-083B2719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9BFF-CB8C-48BC-8968-156BC7BF7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404C-EF71-49F0-BD1F-74F772ACE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AA0F-7728-4743-AE22-FC6B7F7D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A518-B2C3-480A-A594-32151EAE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E8C3-F74B-47AA-9678-DB485DDA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316-0492-45CC-8DB2-1ADE1381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802-1F4A-4838-B876-75C0CDE7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498-E7D5-4923-A652-51F74B5B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630-CE88-4770-B8D1-7AB46398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3A0-A34C-4F29-B42B-A1109FE1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A0F-6F09-4CE0-BA9D-5F231390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1A0-05AB-4D65-80E3-62F4D10C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6D6-E5F9-4C8D-AC08-DD2B67EA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B6F-A135-468C-8E93-DF97572B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85E-3F3A-4DC8-AE7A-55FF4A56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3C1-4A40-40DA-9B65-486B14B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8F4-8A0E-4659-88FE-CC645C1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A434-7DFF-4BB0-957B-87C95FAB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ket.org/education/encyclomedia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voki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lideshare.net/" TargetMode="External"/><Relationship Id="rId2" Type="http://schemas.openxmlformats.org/officeDocument/2006/relationships/image" Target="../media/image24.png"/><Relationship Id="rId3" Type="http://schemas.openxmlformats.org/officeDocument/2006/relationships/hyperlink" Target="http://www.slideboom.com/" TargetMode="External"/><Relationship Id="rId4" Type="http://schemas.openxmlformats.org/officeDocument/2006/relationships/image" Target="../media/image25.png"/><Relationship Id="rId5" Type="http://schemas.openxmlformats.org/officeDocument/2006/relationships/hyperlink" Target="http://www.slideshare.net/secret/3LP0pY2RClHLh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lmooreketresources.wikispace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ket.org/lincoln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l.ket.org/scalecity/dino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l.ket.org/physicslabs/lab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42916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T Online Resources and Web 2.0 Tool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Tou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world destination to find out  the history, geography and culture of more than 36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ce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 country to see dance descriptions, video samples, role of dance in culture info., activities,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ic Sampler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ence a world of sounds with music descriptions, video/audio ex., role of music in culture, activities,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eachers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ceSense teacher’s guide, Dance ATK lesson plan PDFs, audio files, and more teac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remember all the ATKS are supported by the companion website a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>
            <a:hlinkClick r:id="rId1"/>
          </p:cNvPr>
          <p:cNvSpPr/>
          <p:nvPr/>
        </p:nvSpPr>
        <p:spPr>
          <a:xfrm>
            <a:off x="2133720" y="631980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19807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nce Toolkit  World of Music and Dance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b 2.0 Tools: Some Cav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828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copyright rules for sharing resources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careful of teachers’/students’ “Digital Dossi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Free vs. Pro levels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some 2.0 tools are blocked in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:\Documents and Settings\lmoore\Local Settings\Temporary Internet Files\Content.IE5\2WBPTWX7\MPj04392390000[1].jpg"/>
          <p:cNvPicPr/>
          <p:nvPr/>
        </p:nvPicPr>
        <p:blipFill>
          <a:blip r:embed="rId1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28600" y="2743200"/>
            <a:ext cx="883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5000 videos- 50,000 video segment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Robust  Professional Development area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Introduced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hanced Interactive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oring DE Streaming PD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utoShape 6">
            <a:hlinkClick r:id="rId2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743200" y="2449440"/>
            <a:ext cx="32767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18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0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Instructional resources with a variety of software and Web 2.0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0"/>
          <p:cNvSpPr/>
          <p:nvPr/>
        </p:nvSpPr>
        <p:spPr>
          <a:xfrm>
            <a:off x="45720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3124080" y="16765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Rectangle 23">
            <a:hlinkClick r:id="rId1"/>
          </p:cNvPr>
          <p:cNvSpPr/>
          <p:nvPr/>
        </p:nvSpPr>
        <p:spPr>
          <a:xfrm>
            <a:off x="2057400" y="2819520"/>
            <a:ext cx="23623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Rectangle 24"/>
          <p:cNvSpPr/>
          <p:nvPr/>
        </p:nvSpPr>
        <p:spPr>
          <a:xfrm>
            <a:off x="586728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4648320" y="2819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be1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utoShape 20"/>
          <p:cNvSpPr/>
          <p:nvPr/>
        </p:nvSpPr>
        <p:spPr>
          <a:xfrm>
            <a:off x="5791320" y="16765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533520" y="1752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TextBox 39"/>
          <p:cNvSpPr/>
          <p:nvPr/>
        </p:nvSpPr>
        <p:spPr>
          <a:xfrm>
            <a:off x="3200400" y="1752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2133720" y="29066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5867280" y="3973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ieMak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46483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gnment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3" name="TextBox 45"/>
          <p:cNvSpPr/>
          <p:nvPr/>
        </p:nvSpPr>
        <p:spPr>
          <a:xfrm>
            <a:off x="3200400" y="404964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57200" y="388620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dd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457200" y="3962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AutoShape 20"/>
          <p:cNvSpPr/>
          <p:nvPr/>
        </p:nvSpPr>
        <p:spPr>
          <a:xfrm>
            <a:off x="3124080" y="388620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7" name="TextBox 50"/>
          <p:cNvSpPr/>
          <p:nvPr/>
        </p:nvSpPr>
        <p:spPr>
          <a:xfrm>
            <a:off x="38098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ki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8" name="TextBox 51"/>
          <p:cNvSpPr/>
          <p:nvPr/>
        </p:nvSpPr>
        <p:spPr>
          <a:xfrm>
            <a:off x="5791320" y="17524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de Sharing Tool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048120" y="52578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Baskerville Old Face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1" name="Picture 5" descr="C:\Documents and Settings\lmoore\Local Settings\Temporary Internet Files\Content.IE5\KJNM90WP\MPj04224830000[1].jpg"/>
          <p:cNvPicPr/>
          <p:nvPr/>
        </p:nvPicPr>
        <p:blipFill>
          <a:blip r:embed="rId1"/>
          <a:stretch/>
        </p:blipFill>
        <p:spPr>
          <a:xfrm>
            <a:off x="2057400" y="1371600"/>
            <a:ext cx="5143680" cy="34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6"/>
          <p:cNvSpPr/>
          <p:nvPr/>
        </p:nvSpPr>
        <p:spPr>
          <a:xfrm>
            <a:off x="0" y="314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amples of Embedding and HyperLink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3" name="TextBox 18"/>
          <p:cNvSpPr/>
          <p:nvPr/>
        </p:nvSpPr>
        <p:spPr>
          <a:xfrm>
            <a:off x="5867280" y="53452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ering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609480" y="53737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magnetis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5" name="Picture 6" descr="passion flower.jpg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Electromagnetism.wmv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918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world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>
            <a:off x="1676520" y="16765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6095880" y="762120"/>
            <a:ext cx="1676520" cy="175248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752480"/>
              <a:gd name="textAreaBottom" fmla="*/ 1644120 h 1752480"/>
            </a:gdLst>
            <a:ahLst/>
            <a:rect l="textAreaLeft" t="textAreaTop" r="textAreaRight" b="textAreaBottom"/>
            <a:pathLst>
              <a:path w="21600" h="22578">
                <a:moveTo>
                  <a:pt x="0" y="0"/>
                </a:moveTo>
                <a:lnTo>
                  <a:pt x="21600" y="0"/>
                </a:lnTo>
                <a:lnTo>
                  <a:pt x="21600" y="22578"/>
                </a:lnTo>
                <a:lnTo>
                  <a:pt x="0" y="22578"/>
                </a:lnTo>
                <a:close/>
              </a:path>
              <a:path fill="lightenLess" w="21600" h="225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78">
                <a:moveTo>
                  <a:pt x="21600" y="0"/>
                </a:moveTo>
                <a:lnTo>
                  <a:pt x="21600" y="22578"/>
                </a:lnTo>
                <a:lnTo>
                  <a:pt x="20200" y="21179"/>
                </a:lnTo>
                <a:lnTo>
                  <a:pt x="20200" y="1400"/>
                </a:lnTo>
                <a:close/>
              </a:path>
              <a:path fill="darkenLess" w="21600" h="22578">
                <a:moveTo>
                  <a:pt x="21600" y="22578"/>
                </a:moveTo>
                <a:lnTo>
                  <a:pt x="0" y="22578"/>
                </a:lnTo>
                <a:lnTo>
                  <a:pt x="1400" y="21179"/>
                </a:lnTo>
                <a:lnTo>
                  <a:pt x="20200" y="21179"/>
                </a:lnTo>
                <a:close/>
              </a:path>
              <a:path fill="lighten" w="21600" h="22578">
                <a:moveTo>
                  <a:pt x="0" y="225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514600" y="3429000"/>
            <a:ext cx="914400" cy="15238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523880"/>
              <a:gd name="textAreaBottom" fmla="*/ 1464840 h 1523880"/>
            </a:gdLst>
            <a:ahLst/>
            <a:rect l="textAreaLeft" t="textAreaTop" r="textAreaRight" b="textAreaBottom"/>
            <a:pathLst>
              <a:path w="21600" h="35991">
                <a:moveTo>
                  <a:pt x="0" y="0"/>
                </a:moveTo>
                <a:lnTo>
                  <a:pt x="21600" y="0"/>
                </a:lnTo>
                <a:lnTo>
                  <a:pt x="21600" y="35991"/>
                </a:lnTo>
                <a:lnTo>
                  <a:pt x="0" y="35991"/>
                </a:lnTo>
                <a:close/>
              </a:path>
              <a:path fill="lightenLess" w="21600" h="359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91">
                <a:moveTo>
                  <a:pt x="21600" y="0"/>
                </a:moveTo>
                <a:lnTo>
                  <a:pt x="21600" y="35991"/>
                </a:lnTo>
                <a:lnTo>
                  <a:pt x="20200" y="34592"/>
                </a:lnTo>
                <a:lnTo>
                  <a:pt x="20200" y="1400"/>
                </a:lnTo>
                <a:close/>
              </a:path>
              <a:path fill="darkenLess" w="21600" h="35991">
                <a:moveTo>
                  <a:pt x="21600" y="35991"/>
                </a:moveTo>
                <a:lnTo>
                  <a:pt x="0" y="35991"/>
                </a:lnTo>
                <a:lnTo>
                  <a:pt x="1400" y="34592"/>
                </a:lnTo>
                <a:lnTo>
                  <a:pt x="20200" y="34592"/>
                </a:lnTo>
                <a:close/>
              </a:path>
              <a:path fill="lighten" w="21600" h="35991">
                <a:moveTo>
                  <a:pt x="0" y="35991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191120" y="2514600"/>
            <a:ext cx="1218960" cy="182880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828800"/>
              <a:gd name="textAreaBottom" fmla="*/ 1749960 h 1828800"/>
            </a:gdLst>
            <a:ahLst/>
            <a:rect l="textAreaLeft" t="textAreaTop" r="textAreaRight" b="textAreaBottom"/>
            <a:pathLst>
              <a:path w="21600" h="32403">
                <a:moveTo>
                  <a:pt x="0" y="0"/>
                </a:moveTo>
                <a:lnTo>
                  <a:pt x="21600" y="0"/>
                </a:lnTo>
                <a:lnTo>
                  <a:pt x="21600" y="32403"/>
                </a:lnTo>
                <a:lnTo>
                  <a:pt x="0" y="32403"/>
                </a:lnTo>
                <a:close/>
              </a:path>
              <a:path fill="lightenLess" w="21600" h="324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3">
                <a:moveTo>
                  <a:pt x="21600" y="0"/>
                </a:moveTo>
                <a:lnTo>
                  <a:pt x="21600" y="32403"/>
                </a:lnTo>
                <a:lnTo>
                  <a:pt x="20200" y="31003"/>
                </a:lnTo>
                <a:lnTo>
                  <a:pt x="20200" y="1400"/>
                </a:lnTo>
                <a:close/>
              </a:path>
              <a:path fill="darkenLess" w="21600" h="32403">
                <a:moveTo>
                  <a:pt x="21600" y="32403"/>
                </a:moveTo>
                <a:lnTo>
                  <a:pt x="0" y="32403"/>
                </a:lnTo>
                <a:lnTo>
                  <a:pt x="1400" y="31003"/>
                </a:lnTo>
                <a:lnTo>
                  <a:pt x="20200" y="31003"/>
                </a:lnTo>
                <a:close/>
              </a:path>
              <a:path fill="lighten" w="21600" h="32403">
                <a:moveTo>
                  <a:pt x="0" y="3240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4800600" y="1066680"/>
            <a:ext cx="1219320" cy="106704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4682" h="21600">
                <a:moveTo>
                  <a:pt x="0" y="0"/>
                </a:moveTo>
                <a:lnTo>
                  <a:pt x="24682" y="0"/>
                </a:lnTo>
                <a:lnTo>
                  <a:pt x="24682" y="21600"/>
                </a:lnTo>
                <a:lnTo>
                  <a:pt x="0" y="21600"/>
                </a:lnTo>
                <a:close/>
              </a:path>
              <a:path fill="lightenLess" w="24682" h="21600">
                <a:moveTo>
                  <a:pt x="0" y="0"/>
                </a:moveTo>
                <a:lnTo>
                  <a:pt x="24682" y="0"/>
                </a:lnTo>
                <a:lnTo>
                  <a:pt x="23282" y="1400"/>
                </a:lnTo>
                <a:lnTo>
                  <a:pt x="1400" y="1400"/>
                </a:lnTo>
                <a:close/>
              </a:path>
              <a:path fill="darken" w="24682" h="21600">
                <a:moveTo>
                  <a:pt x="24682" y="0"/>
                </a:moveTo>
                <a:lnTo>
                  <a:pt x="24682" y="21600"/>
                </a:lnTo>
                <a:lnTo>
                  <a:pt x="23282" y="20200"/>
                </a:lnTo>
                <a:lnTo>
                  <a:pt x="23282" y="1400"/>
                </a:lnTo>
                <a:close/>
              </a:path>
              <a:path fill="darkenLess" w="24682" h="21600">
                <a:moveTo>
                  <a:pt x="24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2" y="20200"/>
                </a:lnTo>
                <a:close/>
              </a:path>
              <a:path fill="lighten" w="24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629400" y="4952880"/>
            <a:ext cx="22766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228600" y="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2.0 Slide Sharing Sites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76320" y="26668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Secret Codes!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TextBox 7"/>
          <p:cNvSpPr/>
          <p:nvPr/>
        </p:nvSpPr>
        <p:spPr>
          <a:xfrm>
            <a:off x="2362320" y="5176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lideBo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37160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" y="3933720"/>
            <a:ext cx="9124920" cy="1171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838080" y="3200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lideshare.net/secret/3LP0pY2RClHLhl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Action Button: Custom 8">
            <a:hlinkClick r:id="rId5"/>
          </p:cNvPr>
          <p:cNvSpPr/>
          <p:nvPr/>
        </p:nvSpPr>
        <p:spPr>
          <a:xfrm>
            <a:off x="762120" y="3124080"/>
            <a:ext cx="7086600" cy="533520"/>
          </a:xfrm>
          <a:custGeom>
            <a:avLst/>
            <a:gdLst>
              <a:gd name="textAreaLeft" fmla="*/ 34560 w 7086600"/>
              <a:gd name="textAreaRight" fmla="*/ 7052040 w 7086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86728" h="21600">
                <a:moveTo>
                  <a:pt x="0" y="0"/>
                </a:moveTo>
                <a:lnTo>
                  <a:pt x="286728" y="0"/>
                </a:lnTo>
                <a:lnTo>
                  <a:pt x="286728" y="21600"/>
                </a:lnTo>
                <a:lnTo>
                  <a:pt x="0" y="21600"/>
                </a:lnTo>
                <a:close/>
              </a:path>
              <a:path fill="lightenLess" w="286728" h="21600">
                <a:moveTo>
                  <a:pt x="0" y="0"/>
                </a:moveTo>
                <a:lnTo>
                  <a:pt x="286728" y="0"/>
                </a:lnTo>
                <a:lnTo>
                  <a:pt x="285328" y="1400"/>
                </a:lnTo>
                <a:lnTo>
                  <a:pt x="1400" y="1400"/>
                </a:lnTo>
                <a:close/>
              </a:path>
              <a:path fill="darken" w="286728" h="21600">
                <a:moveTo>
                  <a:pt x="286728" y="0"/>
                </a:moveTo>
                <a:lnTo>
                  <a:pt x="286728" y="21600"/>
                </a:lnTo>
                <a:lnTo>
                  <a:pt x="285328" y="20200"/>
                </a:lnTo>
                <a:lnTo>
                  <a:pt x="285328" y="1400"/>
                </a:lnTo>
                <a:close/>
              </a:path>
              <a:path fill="darkenLess" w="286728" h="21600">
                <a:moveTo>
                  <a:pt x="2867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28" y="20200"/>
                </a:lnTo>
                <a:close/>
              </a:path>
              <a:path fill="lighten" w="2867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533520" y="838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de Share -  www.slideshare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ing EncycloMedia With PhotoS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LM sedimentary rock.wmv" descr=""/>
          <p:cNvPicPr/>
          <p:nvPr/>
        </p:nvPicPr>
        <p:blipFill>
          <a:blip r:embed="rId4"/>
          <a:stretch/>
        </p:blipFill>
        <p:spPr>
          <a:xfrm>
            <a:off x="914400" y="6858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09480" y="5140440"/>
            <a:ext cx="8001000" cy="164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0" y="905040"/>
            <a:ext cx="9142560" cy="36669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ki- It’s not just for FaceBook and MySpace</a:t>
            </a: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2819520" y="45720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voki.co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52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n Original Production Using EncycloMedia Content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38080" y="59072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 a short movie created using “MovieMaker” which incorporates Encyclomedia Clips, images, and sound effect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6" name="Will_Lemurs.wmv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9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9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ome KET Resource Integration Sit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80880" y="4916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04920" y="4292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80880" y="360684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9" name="Picture 19" descr="C:\Documents and Settings\lmoore\Local Settings\Temporary Internet Files\Content.IE5\2MW80HCS\MPj04393500000[1].jpg"/>
          <p:cNvPicPr/>
          <p:nvPr/>
        </p:nvPicPr>
        <p:blipFill>
          <a:blip r:embed="rId1"/>
          <a:stretch/>
        </p:blipFill>
        <p:spPr>
          <a:xfrm>
            <a:off x="7043760" y="4572000"/>
            <a:ext cx="20113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1"/>
          <p:cNvSpPr/>
          <p:nvPr/>
        </p:nvSpPr>
        <p:spPr>
          <a:xfrm>
            <a:off x="228600" y="17524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lmooreketresources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1" name="Action Button: Custom 7">
            <a:hlinkClick r:id="rId2"/>
          </p:cNvPr>
          <p:cNvSpPr/>
          <p:nvPr/>
        </p:nvSpPr>
        <p:spPr>
          <a:xfrm>
            <a:off x="0" y="1752480"/>
            <a:ext cx="8534520" cy="609840"/>
          </a:xfrm>
          <a:custGeom>
            <a:avLst/>
            <a:gdLst>
              <a:gd name="textAreaLeft" fmla="*/ 39240 w 8534520"/>
              <a:gd name="textAreaRight" fmla="*/ 8495280 w 8534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02120" h="21600">
                <a:moveTo>
                  <a:pt x="0" y="0"/>
                </a:moveTo>
                <a:lnTo>
                  <a:pt x="302120" y="0"/>
                </a:lnTo>
                <a:lnTo>
                  <a:pt x="302120" y="21600"/>
                </a:lnTo>
                <a:lnTo>
                  <a:pt x="0" y="21600"/>
                </a:lnTo>
                <a:close/>
              </a:path>
              <a:path fill="lightenLess" w="302120" h="21600">
                <a:moveTo>
                  <a:pt x="0" y="0"/>
                </a:moveTo>
                <a:lnTo>
                  <a:pt x="302120" y="0"/>
                </a:lnTo>
                <a:lnTo>
                  <a:pt x="300720" y="1400"/>
                </a:lnTo>
                <a:lnTo>
                  <a:pt x="1400" y="1400"/>
                </a:lnTo>
                <a:close/>
              </a:path>
              <a:path fill="darken" w="302120" h="21600">
                <a:moveTo>
                  <a:pt x="302120" y="0"/>
                </a:moveTo>
                <a:lnTo>
                  <a:pt x="302120" y="21600"/>
                </a:lnTo>
                <a:lnTo>
                  <a:pt x="300720" y="20200"/>
                </a:lnTo>
                <a:lnTo>
                  <a:pt x="300720" y="1400"/>
                </a:lnTo>
                <a:close/>
              </a:path>
              <a:path fill="darkenLess" w="302120" h="21600">
                <a:moveTo>
                  <a:pt x="302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20" y="20200"/>
                </a:lnTo>
                <a:close/>
              </a:path>
              <a:path fill="lighten" w="302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8088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 access the PowerPoint and other resources used in today’s workshop go to my wiki at the address below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38088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r more information regarding integrating KET resources check out these other KET consultants’ sites: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Instructional Online Services Provided to Ky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subject-related web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coln: The Kentucky Y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3" descr="Lincoln.jpg"/>
          <p:cNvPicPr/>
          <p:nvPr/>
        </p:nvPicPr>
        <p:blipFill>
          <a:blip r:embed="rId1"/>
          <a:stretch/>
        </p:blipFill>
        <p:spPr>
          <a:xfrm>
            <a:off x="0" y="990720"/>
            <a:ext cx="739152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609588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ket.org/lincoln/</a:t>
            </a: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1" name="Action Button: Custom 5">
            <a:hlinkClick r:id="rId2"/>
          </p:cNvPr>
          <p:cNvSpPr/>
          <p:nvPr/>
        </p:nvSpPr>
        <p:spPr>
          <a:xfrm>
            <a:off x="76320" y="6095880"/>
            <a:ext cx="6629400" cy="762120"/>
          </a:xfrm>
          <a:custGeom>
            <a:avLst/>
            <a:gdLst>
              <a:gd name="textAreaLeft" fmla="*/ 49320 w 6629400"/>
              <a:gd name="textAreaRight" fmla="*/ 6580080 w 6629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87812" h="21600">
                <a:moveTo>
                  <a:pt x="0" y="0"/>
                </a:moveTo>
                <a:lnTo>
                  <a:pt x="187812" y="0"/>
                </a:lnTo>
                <a:lnTo>
                  <a:pt x="187812" y="21600"/>
                </a:lnTo>
                <a:lnTo>
                  <a:pt x="0" y="21600"/>
                </a:lnTo>
                <a:close/>
              </a:path>
              <a:path fill="lightenLess" w="187812" h="21600">
                <a:moveTo>
                  <a:pt x="0" y="0"/>
                </a:moveTo>
                <a:lnTo>
                  <a:pt x="187812" y="0"/>
                </a:lnTo>
                <a:lnTo>
                  <a:pt x="186412" y="1400"/>
                </a:lnTo>
                <a:lnTo>
                  <a:pt x="1400" y="1400"/>
                </a:lnTo>
                <a:close/>
              </a:path>
              <a:path fill="darken" w="187812" h="21600">
                <a:moveTo>
                  <a:pt x="187812" y="0"/>
                </a:moveTo>
                <a:lnTo>
                  <a:pt x="187812" y="21600"/>
                </a:lnTo>
                <a:lnTo>
                  <a:pt x="186412" y="20200"/>
                </a:lnTo>
                <a:lnTo>
                  <a:pt x="186412" y="1400"/>
                </a:lnTo>
                <a:close/>
              </a:path>
              <a:path fill="darkenLess" w="187812" h="21600">
                <a:moveTo>
                  <a:pt x="187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412" y="20200"/>
                </a:lnTo>
                <a:close/>
              </a:path>
              <a:path fill="lighten" w="187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391520" y="990720"/>
            <a:ext cx="17524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6" descr="lincoln-cartoon.gif"/>
          <p:cNvPicPr/>
          <p:nvPr/>
        </p:nvPicPr>
        <p:blipFill>
          <a:blip r:embed="rId3"/>
          <a:stretch/>
        </p:blipFill>
        <p:spPr>
          <a:xfrm>
            <a:off x="7543800" y="1447920"/>
            <a:ext cx="1565280" cy="2057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7543800" y="3657600"/>
            <a:ext cx="1371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Be sure and play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</a:rPr>
              <a:t>Abe Across Ky. Game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cale City: The Road to Proportional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447920"/>
            <a:ext cx="571500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0"/>
          <p:cNvSpPr/>
          <p:nvPr/>
        </p:nvSpPr>
        <p:spPr>
          <a:xfrm>
            <a:off x="0" y="1409760"/>
            <a:ext cx="335268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actives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of Sca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Shadow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Shadow Puppe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yside Up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al Ma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-0-ram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ed Videos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ature Collection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isville Slugger Museum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ive In Thea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Chicken Festival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osaur World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52280" y="68580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aging new website from KET centers on proportional reasoning with emphasis on scale and scaling designed for middle grades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"/>
          <p:cNvPicPr/>
          <p:nvPr/>
        </p:nvPicPr>
        <p:blipFill>
          <a:blip r:embed="rId3"/>
          <a:stretch/>
        </p:blipFill>
        <p:spPr>
          <a:xfrm>
            <a:off x="5562720" y="4267080"/>
            <a:ext cx="327636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4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5"/>
          <a:stretch/>
        </p:blipFill>
        <p:spPr>
          <a:xfrm>
            <a:off x="2133720" y="4267080"/>
            <a:ext cx="3276360" cy="1828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209680"/>
            <a:ext cx="3330360" cy="18288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s of the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mmoth C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uisville Z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c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ation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terinary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5105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Weath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 Harrod and Fort Boones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ntist’s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ter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 Coming this fall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Belle of Louisville!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6320" y="2286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just a few of the field trips produced by KE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143000" y="6019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3" name="Action Button: Custom 6">
            <a:hlinkClick r:id="rId3"/>
          </p:cNvPr>
          <p:cNvSpPr/>
          <p:nvPr/>
        </p:nvSpPr>
        <p:spPr>
          <a:xfrm>
            <a:off x="2743200" y="6095880"/>
            <a:ext cx="3733920" cy="53352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83" h="21600">
                <a:moveTo>
                  <a:pt x="0" y="0"/>
                </a:moveTo>
                <a:lnTo>
                  <a:pt x="151083" y="0"/>
                </a:lnTo>
                <a:lnTo>
                  <a:pt x="151083" y="21600"/>
                </a:lnTo>
                <a:lnTo>
                  <a:pt x="0" y="21600"/>
                </a:lnTo>
                <a:close/>
              </a:path>
              <a:path fill="lightenLess" w="151083" h="21600">
                <a:moveTo>
                  <a:pt x="0" y="0"/>
                </a:moveTo>
                <a:lnTo>
                  <a:pt x="151083" y="0"/>
                </a:lnTo>
                <a:lnTo>
                  <a:pt x="149684" y="1400"/>
                </a:lnTo>
                <a:lnTo>
                  <a:pt x="1400" y="1400"/>
                </a:lnTo>
                <a:close/>
              </a:path>
              <a:path fill="darken" w="151083" h="21600">
                <a:moveTo>
                  <a:pt x="151083" y="0"/>
                </a:moveTo>
                <a:lnTo>
                  <a:pt x="151083" y="21600"/>
                </a:lnTo>
                <a:lnTo>
                  <a:pt x="149684" y="20200"/>
                </a:lnTo>
                <a:lnTo>
                  <a:pt x="149684" y="1400"/>
                </a:lnTo>
                <a:close/>
              </a:path>
              <a:path fill="darkenLess" w="151083" h="21600">
                <a:moveTo>
                  <a:pt x="151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84" y="20200"/>
                </a:lnTo>
                <a:close/>
              </a:path>
              <a:path fill="lighten" w="151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d11"/>
                </a:solidFill>
                <a:latin typeface="Arial"/>
              </a:rPr>
              <a:t>KET Distance Learning</a:t>
            </a:r>
            <a:br>
              <a:rPr sz="4000"/>
            </a:br>
            <a:br>
              <a:rPr sz="100"/>
            </a:br>
            <a:r>
              <a:rPr b="1" lang="en-US" sz="100" spc="-1" strike="noStrike">
                <a:solidFill>
                  <a:srgbClr val="ffdd11"/>
                </a:solidFill>
                <a:latin typeface="Arial"/>
              </a:rPr>
              <a:t>http:/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610480" cy="54576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1676520" y="61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www.dl.ket.org/physicslabs/labs/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9-06-16T10:09:31Z</dcterms:modified>
  <cp:revision>230</cp:revision>
  <dc:subject/>
  <dc:title>KET Online Resources and Web 2.0 tools</dc:title>
</cp:coreProperties>
</file>